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E1FD-5922-4FF0-B27B-97E91672E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ilateral A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on of the laws or legisl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lateral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on of the laws or legis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ly innoc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86, part of official legislative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as de facto line item veto since Re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ditionally innocu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1986, part of official legislative histo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as de facto line item veto since Reag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in an emergency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 debts to important groups without committing many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ttract much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 prevent vetoes of complex/end of session legis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ick in an emergency situ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y debts to important groups without committing many resour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n’t attract much atten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 prevent vetoes of complex/end of session legisl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deral Administrative Procedures Act (194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all regulatory agencies (FAA, FDA, EPA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making procedures are to be trans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can participate in the rulemak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gencies make rules binding on the public or quasi-judicial decisions resolving disputes about rules, they have to follow certain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deral Administrative Procedures Act (1946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plies to all regulatory agencies (FAA, FDA, EPA, etc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lemaking procedures are to be transpar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 can participate in the rulemaking proc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gencies make rules binding on the public or quasi-judicial decisions resolving disputes about rules, they have to follow certain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or next administration to u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 policymaking processbad polic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sy for next administration to und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 policymaking processbad polic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ormal in histo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cess tod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in Federal Register, numbe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gal Author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l i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in Federal Register, 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verage Executive Orders per year (Washington through Reaga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Executive Orders per year (Washington through Reag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s a condition, declares law and requires obedience, or recognizes an event. (Also pard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ding on the publ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in the Federal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es a condition, declares law and requires obedience, or recognizes an event. (Also pardon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nding on the publi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in the Federal Regis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cement directed to executive branch offic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ublication in Federal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 the radar of MCs and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nouncement directed to executive branch offici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publication in Federal Regis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low the radar of MCs and med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declaration to an agency or department head of a presidential national security decision, requiring follow-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at the National Security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pu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small group dynamics, Congress’ ex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al declaration to an agency or department head of a presidential national security decision, requiring follow-u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ed at the National Security Counci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publish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ly classifi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 with small group dynamics, Congress’ excl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ident refuses to spend funds appropriated by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 has restricted this practice (1974, 19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n only defer spending i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special contingenc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chieve savings through more efficient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n only propose to permanently rescind funds, but Congress must approve within 45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resident refuses to spend funds appropriated by Congr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gress has restricted this practice (1974, 1987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can only defer spending if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“special contingency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chieve savings through more efficient oper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can only propose to permanently rescind funds, but Congress must approve within 45 d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9EA5-7446-4EF4-A2BB-D93D2E83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2625-B853-428C-86D8-9167F65E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F0A-777D-4A1E-8730-3A77DD7F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E4CD-79CD-4B3A-B647-1B125819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FEBE-F9CA-4BEC-B593-3E26502A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9F74-A89A-49DA-A517-19161720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1034-C493-40F1-A03E-AA9953D1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38E0-7A37-4ED5-95F6-054B2743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FFA8-97F9-46AF-8814-7825F060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FA53-A02A-4C8B-9F06-3532829B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7A1B-686A-42F8-BAED-5C1E8890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91D0-0CE5-4882-85F4-50D57743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65A0-153D-4AC0-9DA7-0188B968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6296-ECAE-4060-93CD-9EBB8795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D260-9584-4B1C-BE20-AFB04EBF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FA8B-1A29-4532-83D4-CE66F8DE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58C3-5A96-4B72-903A-079657D4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39EE-CEB5-4EB9-A86D-68325446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32C8-310D-4C61-AF49-D89011E8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1858-57A1-4F58-827A-F540C0EA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097D-37FC-41BB-B51C-BD27198B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81CA-3172-40F7-BEA4-52BA5A70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8F39-7952-4235-A17A-9BB249B2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80E9-2431-432F-81D2-83506197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4177-B3A5-4780-92DE-6CCA5DDEF9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273F-F3EB-4F11-AFE3-7AF3273C9D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Unilateral A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on of the laws or legisl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igning State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tionally innocu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86, part of official legislative 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facto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 item veto since Rea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ck in an emergency sit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y debts to important groups without committing many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attract much atten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ng statements prevent vetoes of complex/end of session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blem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not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ibute to accumulation of power in executive h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it more difficult for successors to gove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mine existing administrative law proced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ederal Administrative Procedures Act (1946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es to all regulatory agencies (FAA, FDA, EPA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lemaking procedures are to be transpar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 can participate in the rulemaking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gencies make rules binding on the public or quasi-judicial decisions resolving disputes about rules, they have to follow certain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not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ibute to accumulation of power in executive h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it more difficult for successors to gov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mine existing administrative law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y for next administration to un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d policymaking proces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d polic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yp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ve Or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Memora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Proclam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Security Direc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und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ng stat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ecutive Ord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ecutive Ord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l in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s to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shed in Federal Register, numb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al Autho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Average Executive Orders per year (Washington through Reagan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698400" y="1677960"/>
          <a:ext cx="774216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677960"/>
                    <a:ext cx="774216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sidential Proclam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a condition, declares law and requires obedience, or recognizes an event. (Also pard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nding on the publ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shed in th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ederal Regi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sidential Memorand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nouncement directed to executive branch offici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ublication i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ederal Regi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ow the radar of MCs and me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ational Security Directiv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al declaration to an agency or department head of a presidential national security decision, requiring follow-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gned at the National Security Counc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publish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ly classifi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s with small group dynamics, Congress’ excl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ound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esident refuses to spend funds appropriated by Cong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gress has restricted this practice (1974, 198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can only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def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pending if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“special contingency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achieve savings through more efficient ope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can only propose to permanentl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resci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unds, but Congress must approve within 45 d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7:29:23Z</dcterms:created>
  <dc:creator>Casey B. K.  Dominguez</dc:creator>
  <dc:description/>
  <dc:language>en-US</dc:language>
  <cp:lastModifiedBy>Legion</cp:lastModifiedBy>
  <dcterms:modified xsi:type="dcterms:W3CDTF">2017-07-06T06:51:10Z</dcterms:modified>
  <cp:revision>21</cp:revision>
  <dc:subject/>
  <dc:title>PowerPoint Presentation</dc:title>
</cp:coreProperties>
</file>